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9B1-D42C-4DF3-A181-1B457739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DB6-65C5-46A6-9E6B-A2BBCBE4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105-A0AC-4738-AEDB-910DBBE9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EC2-D2F8-4EB9-9AC3-3C4F098D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6F74-3648-434A-9CD4-F9A8712F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93FE-B7D2-499E-848B-046BE324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8FCA-B267-4FCB-9407-261FFD67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4365-ABF5-4ADB-9AF5-1474BEF9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4E7E-DE5E-4D5F-B9B8-8AB6A884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AFCE-892F-4F4B-838A-445E16EE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D692-4269-49ED-8545-0D100D1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F45-1A33-4734-8512-A35DE20A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4770-B79C-4288-B733-261E4B2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075D-2AD8-4AC5-92DE-EC7A84D5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3777-F173-49D6-808E-3056CE1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6C41-B636-441C-8C15-D088B059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1268-305E-41D7-A653-86D1E8B8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E06-250F-44C1-924E-5390ECC2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149-4F05-4507-B2A5-53E7674D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C66-150B-4C9F-A047-1E0BCCF4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D8C-A60B-48D6-96CD-B40D1DC5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B49-2604-4C4B-AE78-D2E052C8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0C7-AED6-4C07-ACC4-F93B50F5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969-1104-4747-AF80-8CB02D6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B4EB-59B2-4B68-8549-AAC904574C6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7ED8-E83A-4124-9119-057A79651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644-91C9-420C-873F-317532C5ACF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FAD1-A7F8-4BA7-9BE8-C2003B124CA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5BAF-3643-405B-8253-DFAA11E46F29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FEF5-B05B-40CB-9F70-FD7D505FA1A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Поремећаји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малог мозга</a:t>
            </a:r>
            <a:br>
              <a:rPr sz="4400"/>
            </a:br>
            <a:br>
              <a:rPr sz="4400"/>
            </a:br>
            <a:r>
              <a:rPr b="0" lang="sr-RS" sz="1600" spc="-1" strike="noStrike">
                <a:solidFill>
                  <a:srgbClr val="ffcc00"/>
                </a:solidFill>
                <a:latin typeface="Times New Roman"/>
              </a:rPr>
              <a:t>проф др Светлана Милетић Дракулић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F74D-F9AE-493C-B284-C6CCE9F79EA8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78A7-7EB8-40D7-9DEA-EF6057A801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симптоми и знаци оштећења малог мозг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таксија  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екстремит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атаксија хода 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ремећај равнотеж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реме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ј говора (скандиран говор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куларни покрети (нистагмуса, трзајеви булбуса)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Губитак мишићног тонуса-хипотон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C07C-58D4-4F62-8674-D1E0221C5D3F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BFE5-0ABB-4264-A2D7-8E0122D6C6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Церебеларне проб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Кординација стајања и ход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1.ход на </a:t>
            </a:r>
            <a:r>
              <a:rPr b="0" lang="sr-RS" sz="3200" spc="-1" strike="noStrike">
                <a:solidFill>
                  <a:srgbClr val="ffcc00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ирокој основ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2. Компасни хо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. Ромбергов тес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АСТАЗИЈА, АБАЗ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372360" y="2313000"/>
            <a:ext cx="17413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863D-9EB2-4BA7-AA5B-B06A8CAA818C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00F-E4F7-4E1D-BC95-152E56D4500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Церебеларне проб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Тестови кординације ектремитета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тестови дијадохокинез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проба прст-но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. Прст-нос-прс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.Димић-Вуји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ева проб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.пета-колен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оремећај кординације:дизметриј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нтенциони тремо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559560" y="154296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570720" y="3581280"/>
            <a:ext cx="22194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656-7250-4111-929A-2C6A5036831B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E639-2494-40C7-BDDF-BDB6F752DE2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Церебеларне проб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Тестови сингер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284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Етиологија </a:t>
            </a: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штећењ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течен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 атакс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аследн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 атакс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Идиопатске  спорадичне атакс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CC29-8D91-4BA0-855A-B333F3BD8D8C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B078-42DC-452D-8C1D-FCE63E54A03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6B7F-E852-4167-A895-F6CF10FA9B9F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0A9-F7D3-4781-A049-CF53182658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одела церебеларних атакс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66290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1600200" y="685800"/>
            <a:ext cx="7543800" cy="599832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Акутна, пролазна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Интоксикација(алкохол, барбитурати,фенитоин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хипертермиј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 Васкуларне лезије (инфаркти, крвављењ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Акутна ,трајна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нтоксикација 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вом, толуен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Субакутна(неколико недељ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тумори(медулобластом, 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ст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роцитом,хемангиобласт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алкохол-нутрицион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 Б1, Б1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паранеопласти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а (опсоклонус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Хроницна (месецима </a:t>
            </a:r>
            <a:r>
              <a:rPr b="1" lang="sr-RS" sz="2000" spc="-1" strike="noStrike" u="sng">
                <a:solidFill>
                  <a:srgbClr val="ffff59"/>
                </a:solidFill>
                <a:uFillTx/>
                <a:latin typeface="Times New Roman"/>
              </a:rPr>
              <a:t>и</a:t>
            </a: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 годинам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Фридри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хова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ова атаксиј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Хередитарне метаболи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ке  болести (са миоклонусом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 Мултипла склероз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cc"/>
                </a:solidFill>
                <a:latin typeface="Times New Roman"/>
              </a:rPr>
              <a:t>Стечен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акут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ати или да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нтоксикације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алкохола, 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 difenilhidantoin, barbiturati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зитивна анамнез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 токсиколошки налаз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Акутни вирусни 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 cerebelitis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ал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у ликвору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Церебеларни 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п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цес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стинфективни синдр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васкуларни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нфаркти, хеморагије, хемтоми субдуралн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Rounded Rectangle 3"/>
          <p:cNvSpPr/>
          <p:nvPr/>
        </p:nvSpPr>
        <p:spPr>
          <a:xfrm>
            <a:off x="3857760" y="3214800"/>
            <a:ext cx="1428480" cy="357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4" descr="C:\Users\Info\Pictures\преузимање (6).jpg"/>
          <p:cNvPicPr/>
          <p:nvPr/>
        </p:nvPicPr>
        <p:blipFill>
          <a:blip r:embed="rId1"/>
          <a:stretch/>
        </p:blipFill>
        <p:spPr>
          <a:xfrm>
            <a:off x="5429160" y="285840"/>
            <a:ext cx="3143520" cy="207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Info\Pictures\alkohol-macht-locker-ja-aber-oft-auch-so-locker-dass-ihr-tun-jeglichen-sinn-und-verstand-verliert-das-sollten-sie-auf-jeden-fall-vermeiden-.jpg"/>
          <p:cNvPicPr/>
          <p:nvPr/>
        </p:nvPicPr>
        <p:blipFill>
          <a:blip r:embed="rId2"/>
          <a:stretch/>
        </p:blipFill>
        <p:spPr>
          <a:xfrm>
            <a:off x="357120" y="428760"/>
            <a:ext cx="44290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Times New Roman"/>
              </a:rPr>
              <a:t>Стечене атакс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убакут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дани и дедеље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токсикације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олово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растварачи,лепак,хемиотерапиј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лкохол-нутритивни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недостатак витамина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r>
              <a:rPr b="0" lang="en-GB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GB" sz="2400" spc="-1" strike="noStrike" baseline="-25000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Lyme-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ка болес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Паранеопластчни синдро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Times New Roman"/>
              </a:rPr>
              <a:t>Стечене атакс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хронич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месеци и године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ipotireoidiz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abes dorsalis (tercijarni sifilis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Мултипла склероз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Тумори церебелу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677C-81E6-4AC0-BF61-AE19F5EB7A4E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50D8-9F79-4D0B-B640-BB36CC9796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N9_19S"/>
          <p:cNvPicPr/>
          <p:nvPr/>
        </p:nvPicPr>
        <p:blipFill>
          <a:blip r:embed="rId1"/>
          <a:stretch/>
        </p:blipFill>
        <p:spPr>
          <a:xfrm>
            <a:off x="1258920" y="765000"/>
            <a:ext cx="6481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EREBEL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астоји се од две хемисфере пове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ане вермисом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Везан је са осталим струк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т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урама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а 3 пара ножица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dunculi cerebell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icture 5" descr="C:\Users\Info\Pictures\преузимање (8).jpg"/>
          <p:cNvPicPr/>
          <p:nvPr/>
        </p:nvPicPr>
        <p:blipFill>
          <a:blip r:embed="rId1"/>
          <a:stretch/>
        </p:blipFill>
        <p:spPr>
          <a:xfrm>
            <a:off x="4071960" y="2666880"/>
            <a:ext cx="46432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597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Тумори малог мозга и 4. коморе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Meduloblastom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чешћи код деце, врло малигни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осетљиви на РТГ зрачењ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Astrocitom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код деце и одраслих, бенигнији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захватају само једну хемисферу малог мозг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Picture 1" descr="C:\Users\Info\Pictures\преузимање (7).jpg"/>
          <p:cNvPicPr/>
          <p:nvPr/>
        </p:nvPicPr>
        <p:blipFill>
          <a:blip r:embed="rId1"/>
          <a:stretch/>
        </p:blipFill>
        <p:spPr>
          <a:xfrm>
            <a:off x="6215040" y="1785960"/>
            <a:ext cx="2028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Тумори малог мозг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Ошти знаци се рано јављају</a:t>
            </a: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главобољ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повраћањ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едем папиле очнг живц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Фокални </a:t>
            </a:r>
            <a:r>
              <a:rPr b="1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наци </a:t>
            </a:r>
            <a:r>
              <a:rPr b="1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ависе од локали</a:t>
            </a:r>
            <a:r>
              <a:rPr b="1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ације:</a:t>
            </a: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атаксија, хипотонија..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Picture 1" descr="C:\Users\Info\Pictures\images (5).jpg"/>
          <p:cNvPicPr/>
          <p:nvPr/>
        </p:nvPicPr>
        <p:blipFill>
          <a:blip r:embed="rId1"/>
          <a:stretch/>
        </p:blipFill>
        <p:spPr>
          <a:xfrm>
            <a:off x="6572160" y="13572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Users\Info\Pictures\Medulloblastoma1.jpg"/>
          <p:cNvPicPr/>
          <p:nvPr/>
        </p:nvPicPr>
        <p:blipFill>
          <a:blip r:embed="rId2"/>
          <a:stretch/>
        </p:blipFill>
        <p:spPr>
          <a:xfrm>
            <a:off x="5929200" y="4643280"/>
            <a:ext cx="2855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Етиологија </a:t>
            </a: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штећењ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тече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5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imes New Roman"/>
              </a:rPr>
              <a:t>Наслед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Идиопатске  спорадичне атакс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2B7C-2699-4A6D-A7FA-FE7D2A40FC2E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811C-6B77-48DB-AF61-13D64FA1169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Rounded Rectangle 5"/>
          <p:cNvSpPr/>
          <p:nvPr/>
        </p:nvSpPr>
        <p:spPr>
          <a:xfrm>
            <a:off x="928800" y="2714760"/>
            <a:ext cx="32860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E676-EC93-43F4-9E04-BCFA4EF8CFA6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57AD-BC6A-4C49-B967-51993E9B9D2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Хередитарне атак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егенеративне , наслед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уто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омно рецесивн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утозомно доминантн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утације у митохондријалном геном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егенерација на нивоу кичмене мождине (кортикоспинални, задњи снопови, спиноцеребеларни)+оливе+понс+мали мозак+видни живц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очињу у детинству или средњем животном добу  и лагано прогредирају</a:t>
            </a:r>
            <a:r>
              <a:rPr b="0" lang="sr-RS" sz="2400" spc="-1" strike="noStrike">
                <a:solidFill>
                  <a:srgbClr val="ffff59"/>
                </a:solidFill>
                <a:latin typeface="Times New Roman"/>
              </a:rPr>
              <a:t>-хроничног ток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6255-5A12-4E7C-A9E3-80CF76466A0D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9096-0B96-4AF8-8E19-055636480A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iedreichova ataksij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пре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5 годи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утозомно рецесив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линички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Мали мозак</a:t>
            </a:r>
            <a:r>
              <a:rPr b="0" lang="sr-RS" sz="3200" spc="-1" strike="noStrike">
                <a:solidFill>
                  <a:srgbClr val="ffcc00"/>
                </a:solidFill>
                <a:latin typeface="Times New Roman"/>
              </a:rPr>
              <a:t> дегенерација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пуркињеове ћелије, нк демтатус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атаксија стајања и ход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атаксија  ектремит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дизартр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0" name="TAarefleks.avi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590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286E-F470-4E30-BAC3-2AA565F7AF1C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7B52-65D3-4A60-8DFD-B846EA598F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cc00"/>
                </a:solidFill>
                <a:latin typeface="Times New Roman"/>
              </a:rPr>
              <a:t>Дегенерација ганглиона задњих коренова и з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адњи снопов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Оштећени вибрациони И позициони сензибилите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Угасени рефлекс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cc00"/>
                </a:solidFill>
                <a:latin typeface="Times New Roman"/>
              </a:rPr>
              <a:t>Дегенерција к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ортикоспинални пу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лабост ногу, Бабински +; 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роузонов зна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Атрофија оптикус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лепило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, слу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Коштани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деформитети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кифосолиоза,, деформација стопала,-Фриедреицхово стопало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Кардиомиопатија 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iedreichovo stpalo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es cavus</a:t>
            </a:r>
            <a:br>
              <a:rPr sz="4400"/>
            </a:b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ekstenzija metatarzofalangelanih zglovova, fleksija interfalagealnih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70A0-0571-455E-9E6A-FA2DA582B57E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9195-4F0C-4084-9CBC-30C931058D4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2" descr="C:\Users\Info\Pictures\images (2).jpg"/>
          <p:cNvPicPr/>
          <p:nvPr/>
        </p:nvPicPr>
        <p:blipFill>
          <a:blip r:embed="rId1"/>
          <a:stretch/>
        </p:blipFill>
        <p:spPr>
          <a:xfrm>
            <a:off x="2500200" y="278604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дијагно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ЕМНГ-губитак сен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орних аксона у периферним нерви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ЕКГ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хипертрофична  миокардиопат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Р-нема поремећаја малог мозга морфолошки, атрофија вратног дела кичмене можи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59"/>
                </a:solidFill>
                <a:latin typeface="Times New Roman"/>
              </a:rPr>
              <a:t>Генетско испитивање-хромозом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9-експанзија поновака ГАА у првом интрону 66-1000 пута-нагомилавање гвожђа у митохондрија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8D5E-779A-42B2-B3A0-7A1D06714C92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8392-07E9-4B96-965C-2E105D35E2C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рогн</a:t>
            </a: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6901-974F-49E0-8EA8-1C5C85A1BB63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0A03-D8EE-440D-8814-DE6CC48BDC9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2" descr="C:\Users\Info\Pictures\преузимање (5).jpg"/>
          <p:cNvPicPr/>
          <p:nvPr/>
        </p:nvPicPr>
        <p:blipFill>
          <a:blip r:embed="rId1"/>
          <a:stretch/>
        </p:blipFill>
        <p:spPr>
          <a:xfrm>
            <a:off x="4500720" y="2286000"/>
            <a:ext cx="3852720" cy="29145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357120" y="2071800"/>
            <a:ext cx="49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10-15 година не може самостално да се крећ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Смрт у  4. деценији кардилошк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терапија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Рехабилитац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Идебенон  за хипертрофичну  кардиомиопатију(коензим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функционална организац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Верми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Две симетричне хемисфер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7A67-97E5-4C95-A09D-D2C5364733B8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66BC-F289-4D24-B35D-769E92FAD66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6" descr="C:\Users\Info\Pictures\CerebellumDiv.png"/>
          <p:cNvPicPr/>
          <p:nvPr/>
        </p:nvPicPr>
        <p:blipFill>
          <a:blip r:embed="rId1"/>
          <a:stretch/>
        </p:blipFill>
        <p:spPr>
          <a:xfrm>
            <a:off x="2000160" y="3429000"/>
            <a:ext cx="7143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9CF5-6C76-427D-BE2E-3CCC0B70CAC8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F00A-E0CE-4793-A954-5B736D92802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Arnold-Chiarieva   малформација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ра</a:t>
            </a:r>
            <a:r>
              <a:rPr b="0" lang="sr-RS" sz="4000" spc="-1" strike="noStrike">
                <a:solidFill>
                  <a:srgbClr val="ffcc00"/>
                </a:solidFill>
                <a:latin typeface="Times New Roman"/>
              </a:rPr>
              <a:t>з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војна аномалиј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пу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тање  дела (тон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ла и 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дњег вермиса) церебелума у ки</a:t>
            </a: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ени канал  иза проду</a:t>
            </a: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ене мо</a:t>
            </a: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ине (затварају форамен магнум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/ил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пустање проду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не мо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ине са 4. комором у кичмени кана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2819520" y="3276720"/>
            <a:ext cx="160020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Picture 6" descr="C:\Users\Info\Pictures\преузимање (2).jpg"/>
          <p:cNvPicPr/>
          <p:nvPr/>
        </p:nvPicPr>
        <p:blipFill>
          <a:blip r:embed="rId1"/>
          <a:stretch/>
        </p:blipFill>
        <p:spPr>
          <a:xfrm>
            <a:off x="4286160" y="3143160"/>
            <a:ext cx="5143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882C-83B8-437D-8722-CF715D343288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83C1-B855-4690-ADD5-2111B9EC15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Клини</a:t>
            </a: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ч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ка сл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 одраслом доб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огресивни церебеларни синдр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већани интракранијални притисак(хидроцефалус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штећење доње групе кранијалних нерав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мпресија можданог стабла, кичмене мождин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8" name="Picture 6" descr="C:\Users\Info\Pictures\преузимање (4).jpg"/>
          <p:cNvPicPr/>
          <p:nvPr/>
        </p:nvPicPr>
        <p:blipFill>
          <a:blip r:embed="rId1"/>
          <a:stretch/>
        </p:blipFill>
        <p:spPr>
          <a:xfrm>
            <a:off x="6715080" y="214200"/>
            <a:ext cx="21909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05A5-A893-4811-B044-D4A507C6D422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24E7-DD0E-41CE-95FB-CAD49900F7F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Дијагностик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мјутеризованом томографиј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Магнетном резонанц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Ле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ње-хирушк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3" name="Picture 7" descr="C:\Users\Info\Pictures\преузимање (3).jpg"/>
          <p:cNvPicPr/>
          <p:nvPr/>
        </p:nvPicPr>
        <p:blipFill>
          <a:blip r:embed="rId1"/>
          <a:stretch/>
        </p:blipFill>
        <p:spPr>
          <a:xfrm>
            <a:off x="4786200" y="3357720"/>
            <a:ext cx="3643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Лечење церебеларних поремећаја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симптоматски+узрок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604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onijaz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zostigm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-5-hidroksitriptof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tamin 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mantad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pranol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onazep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8F50-37C7-4728-A53F-AC5FD625710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962D-8D02-4CA7-82AE-5FB2E5029F3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Трансвезално гледано-3 дел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714840"/>
            <a:ext cx="76723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Lobus floculonodular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archicerebellum-Vestibulocerebelu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најстaриji део, функциja равнотеже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Lobus cerebeli anterior –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leocerebellum</a:t>
            </a: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 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pinocerebelum-prednji  vermis, lobus anteri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положај и ми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ш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и тонус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Lobus cerebeli posterior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neocerebelum -Pontocerebelum-srednji deo vermisa, obe hemisfer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кординацију покрет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2" descr="C:\Users\Info\Pictures\cerebellum.jpg"/>
          <p:cNvPicPr/>
          <p:nvPr/>
        </p:nvPicPr>
        <p:blipFill>
          <a:blip r:embed="rId1"/>
          <a:stretch/>
        </p:blipFill>
        <p:spPr>
          <a:xfrm>
            <a:off x="1928880" y="1000080"/>
            <a:ext cx="5557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6FD3-9F57-46F5-A45A-EC946D75901B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2171-8D39-4F16-9AD8-E1282CEE975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Лонгитудинална функционална организац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редњи део-стајање и ход,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атаксија труп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титурбац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Латерални-кординација ипсилатералних екстремитет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, хипотон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ра организована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оматотопи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6" descr="C:\Users\Info\Pictures\somatotopy_cerebellum1305851004465.jpg"/>
          <p:cNvPicPr/>
          <p:nvPr/>
        </p:nvPicPr>
        <p:blipFill>
          <a:blip r:embed="rId1"/>
          <a:stretch/>
        </p:blipFill>
        <p:spPr>
          <a:xfrm>
            <a:off x="4427640" y="4653000"/>
            <a:ext cx="4572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3414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Церебеларни кортек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Три ћелијска сло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Најближи белој маси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грануларни сло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реко њега слој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урки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ње-ових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ћелије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једине аутпут малог мозг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Молекуларни слој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садржи две главне класе инхибиторних неурона:велике дендрите Пуркинијевих ћелија и дуге аксоне грануларних ћел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dra&gt;nc detatus, nc, fastigii, nc embolifomis I nc  globos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C:\Users\Info\Pictures\cerebellum_cortex_10X.jpg"/>
          <p:cNvPicPr/>
          <p:nvPr/>
        </p:nvPicPr>
        <p:blipFill>
          <a:blip r:embed="rId1"/>
          <a:stretch/>
        </p:blipFill>
        <p:spPr>
          <a:xfrm>
            <a:off x="4500720" y="285840"/>
            <a:ext cx="4143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уркинијеве ћел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хибиторни неурони за церебеларна и вестибуларна једра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 (ГАБ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формација из церебеларних једара је углавном ексцитаторна осим за оливарна инф једра(из денталног једра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C:\Users\Info\Pictures\cerebellum-02.jpg"/>
          <p:cNvPicPr/>
          <p:nvPr/>
        </p:nvPicPr>
        <p:blipFill>
          <a:blip r:embed="rId1"/>
          <a:stretch/>
        </p:blipFill>
        <p:spPr>
          <a:xfrm>
            <a:off x="5500800" y="385776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функције CEREBELUM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imes New Roman"/>
              </a:rPr>
              <a:t>Контрола положаја и покр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Моторно учењ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гнитивне функц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чешће у контроли психичких функц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59"/>
                </a:solidFill>
                <a:latin typeface="Times New Roman"/>
              </a:rPr>
              <a:t>Контрола положаја и покрет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рдинише агонисте и антагонисте и помоћну мускулатур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Глатки , временски и просторно ускл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ђ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ни, прецизни покрет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3C0-B2F4-4C2E-829C-B4B76BF8629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7957-2D32-44E4-BE13-945919C5197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Down Arrow 5"/>
          <p:cNvSpPr/>
          <p:nvPr/>
        </p:nvSpPr>
        <p:spPr>
          <a:xfrm>
            <a:off x="4071960" y="3143160"/>
            <a:ext cx="71280" cy="500040"/>
          </a:xfrm>
          <a:prstGeom prst="downArrow">
            <a:avLst>
              <a:gd name="adj1" fmla="val 50000"/>
              <a:gd name="adj2" fmla="val 50113"/>
            </a:avLst>
          </a:prstGeom>
          <a:solidFill>
            <a:srgbClr val="cc00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</dc:creator>
  <dc:description/>
  <dc:language>en-US</dc:language>
  <cp:lastModifiedBy>User</cp:lastModifiedBy>
  <dcterms:modified xsi:type="dcterms:W3CDTF">2020-09-29T10:28:24Z</dcterms:modified>
  <cp:revision>104</cp:revision>
  <dc:subject/>
  <dc:title>PowerPoint Presentation</dc:title>
</cp:coreProperties>
</file>